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16A-A6F7-42C0-B1B4-65EA239CD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4L3 Question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last study we left off with Saul “feeling compelled to offer the sacrifices” though he was waiting a for Samuel a legiimate priest.  He was shown that God had rejected him from being captain over his a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tly, Israel was sorely oppressed by the Philist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lesson we will see that Jonathan meets with success against a Philistine gar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’s rash oat causes severe hu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eat lik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Saul’s religious side is not completely l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wanting a moment of victory like his son, he does something noble-loo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an a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quires of the Lord about whether to pursue the Philistines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path from Michmash to Aij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raelites had pushed the Philistines back this f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raelites were very faint from all of this effort and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aul interested in keeping his rash vow on this point, but has not been as interested in keeping the will of G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nobility in keeping his vows has long been offset by his many other poor judgment c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:47 is a summary of the battle-fronts and various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hapter 15 – Saul is instructed to destroy the Amalek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area from which this battle will be f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specific instructions of verse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Saul did in verse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15:12.  Saul was at “Carmel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ight map shows location of MOUNT “Carmel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map shows correct location of the “Carme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going “down” to Gilgal  refers to the decline from the mountainous region to the Jordan val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verse 17 – “when you were little in your own ey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of which Jonathan attacks the Philistine garrison is “the pass of Michma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ust a moment we will notice a picture of this Pass of Michm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see the pass of Michmash – See 1 Sam.13: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photo shows some sharp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14:4  there were some sharp rocks called Bozez and Sen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rocks and location are not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4057920" cy="3043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33720" y="38098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Pass of Michmas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86200" y="3352680"/>
            <a:ext cx="15228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2686320" cy="1788840"/>
          </a:xfrm>
          <a:prstGeom prst="rect">
            <a:avLst/>
          </a:prstGeom>
          <a:ln w="0">
            <a:noFill/>
          </a:ln>
        </p:spPr>
      </p:pic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in Benjamin’s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athan was in Michma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ul was in Gibe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will show another angle on Michm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description of the landscape described in 14:4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ake note of the faith of Jonathan as expressed in vs. 6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Jonathan is away fighting secretly for Israel, Saul is couched here in Gibea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slide looks at the area of Gibeah from satell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Gibeah is in the hill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direction from Philistia  and from Jerusa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won by Jonathan emboldened the Israeli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shifts to Beth aven 14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we see the wrecklessness of Sa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not a good leader and decision-ma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words and actions keep Israel in trouble, even though other men give Israel their moments of vi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350-FC0F-4508-8F2B-4749F29D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E79-7272-4B01-A6BF-E22D3CBC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C55-6460-4C24-8F80-E62D480B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1BD-8FBB-4323-9DD1-CC74A31A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F2D-9C5F-4BF7-B5FF-B74773D8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133A-4BF5-4972-809B-511D4BE7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DDC-FDD6-455B-90E5-D9C2F90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8BA-87E4-49B5-9224-BE315CC8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A346-4892-4465-B15C-BFD0A92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E45D-DFC3-44F2-826B-B90DE6B0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F319-9499-400B-8141-3B42AB54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44D-CF8E-4FE4-A538-4566C0E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1BB-DF41-431E-BEFE-7175C756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752B-1BBB-4E85-BB5F-24AC052C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5FB0-FBEC-4D17-924E-B720BB9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03DD-AB4F-4E85-A20E-3668EDCF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39D-C252-46FE-B588-7772C6D4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F31-C64E-4DD2-B47A-D6B68DD4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679-C0EB-4A8C-8547-367EBD46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97B-BA0A-4C66-AC88-4D1528B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5CE-6E57-443C-A03C-5538B621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3B1-8012-4702-A21D-A2231360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F73-A73B-4C46-92B2-4961EC8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464-ED47-464B-976B-0A09623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B6F3-5792-481C-B196-3882C728745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C21-A386-44DF-A855-EEE4582A57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United Kingdom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4, Lesson 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Samuel 14-1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g.13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34160" y="3914640"/>
            <a:ext cx="2409840" cy="2943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ul’s Order Causes 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Philistines being defeated, the people seize upon the spoi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y begin to eat flesh without previously bleeding the animals, which Saul endeavors to prevent   v. 31-3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builds an altar there, v. 3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inquires of the Lord if he may pursue the Philistines by night, but receives no answer, v. 36-37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87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371600" y="4114800"/>
            <a:ext cx="838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2590920"/>
            <a:ext cx="2438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ichmas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ijal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09680" y="2895480"/>
            <a:ext cx="289584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648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 Sam.14:3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aul Feels Obligated To Curse Even His S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inds that Jonathan had tasted the honey, on which he plans to put him to death, v. 38-4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ut the people interpose, and rescue Jonathan, v. 4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ights against the Moabites, Ammonites, and Amalekites, v. 46-48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n account of the family of Saul, v. 49-52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105520" y="5867280"/>
            <a:ext cx="1590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malekite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486400" y="4572000"/>
            <a:ext cx="9144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495680"/>
            <a:ext cx="91440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240" y="4952880"/>
            <a:ext cx="60948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705720" y="4038480"/>
            <a:ext cx="6094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80880"/>
            <a:ext cx="3962160" cy="6096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2120"/>
            <a:ext cx="3429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fter Fighting The Philistin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ul Also Defeat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oabit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alekites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mmon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7424640" cy="4821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4952880"/>
            <a:ext cx="1295640" cy="381240"/>
          </a:xfrm>
          <a:prstGeom prst="ellipse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6386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aul is instructed to destroy all the Amalekit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ssion Against Amaleki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muel sends Saul to destroy the Amalekites, and all their substance, v. 1-3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collects an immense army and comes against their city, v. 4-5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desires the Kenites to remove from among the Amalekites, v. 6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strikes the Amalekites, and takes their king, Agag, as prisoner, and saves the best of the spoil, v. 7-9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95920" cy="3695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419720" y="1600200"/>
            <a:ext cx="457200" cy="4572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442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81680" y="1066680"/>
            <a:ext cx="228600" cy="2286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57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arme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762120"/>
            <a:ext cx="228600" cy="30456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5:1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505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aul Went to Carmel and down to Gilg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19320" y="3965400"/>
            <a:ext cx="4452840" cy="2892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114800" y="4343040"/>
            <a:ext cx="914400" cy="15238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i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572000" y="5257800"/>
            <a:ext cx="1371600" cy="5335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0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t Thi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009920" y="1371600"/>
            <a:ext cx="685800" cy="35812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ul Rejected As K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Sam 1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Lord is displeased, and sends Samuel to reprove him, v. 10-1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conversation between Samuel and Saul, in which Saul endeavours to justify his conduct, v. 12-2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ul is convinced that he has done wrong, and asks pardon, v. 24-3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Prefers Obedience Over Big Schemes -22,23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od has rejected you as king” -26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uel causes Agag to be slain, for which he assigns the reasons, v. 32-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than Leads Israel to Vic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. 14:1-4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 and his armour-bearer propose to attack a garrison of the Philistines  v.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and his army, with Ahiah the priest, tarry in Gibeah, v. 2-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 plans his attack of the Philistine garrison, v. 4-1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nd his armour-bearer climb over a rock, attack, and rout the garrison, v. 11-1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19960" cy="527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276720" y="5105520"/>
            <a:ext cx="131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ibea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42840" y="3505320"/>
            <a:ext cx="1143000" cy="175248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705720" y="228600"/>
            <a:ext cx="195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ma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505320" y="1143000"/>
            <a:ext cx="3124080" cy="121932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here Saul W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16002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Jonathan met the Philistine Garris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352680" y="0"/>
            <a:ext cx="1952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hmas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124080" y="533520"/>
            <a:ext cx="2667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ibeah of Sau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458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7529600">
            <a:off x="1098360" y="3092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Philist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276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Gibea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Jonathan Attacks The Philist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ul and his company see confusion in the Philistine h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emboldened to come out against th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en who had hidden themselves also came out to help figh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Philistines are defeated, v. 16-23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onathan Violates Saul’s Ord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Sam 14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ul felt he must avenge himself of his enem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put every man under a curse who might eat food until the even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 consequence of which the people are severely distressed, v. 24-26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onathan, not hearing the order, eats a little honey, which he found on the ground, v. 27-3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23:30:13Z</dcterms:created>
  <dc:creator>Terry W. Benton</dc:creator>
  <dc:description/>
  <dc:language>en-US</dc:language>
  <cp:lastModifiedBy>Terry W. Benton</cp:lastModifiedBy>
  <dcterms:modified xsi:type="dcterms:W3CDTF">2005-04-07T22:56:44Z</dcterms:modified>
  <cp:revision>5</cp:revision>
  <dc:subject/>
  <dc:title>The United Kingdom</dc:title>
</cp:coreProperties>
</file>